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EAF-7F2D-4A82-9BCF-F3AA3156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B11-5B39-4BD5-AD7A-BF645C7E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6E3-CBAD-48D3-A6A7-B5C5903A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C5D-C619-4891-A2FC-B067DCF3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5BA-50F5-43E6-AAFC-76D7783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F64-1195-4710-84B2-12C2984F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FE5-B4E1-4EDF-A561-4ADA6FD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DE8-2618-47ED-A880-64E9BF9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803-3FFA-4F21-B033-A590CFE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A37-0CFF-46A8-A946-84E4EBF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90E-E180-4A65-82F2-1EC00DE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E1F-8272-4693-A0E4-D54024E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040-6166-4CA1-92BB-920636537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system 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ques Olliv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ver Koern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costs when delaying a system, e.g. loss of business through bad customer informatio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2514600"/>
          <a:ext cx="8381880" cy="1565280"/>
        </p:xfrm>
        <a:graphic>
          <a:graphicData uri="http://schemas.openxmlformats.org/drawingml/2006/table">
            <a:tbl>
              <a:tblPr/>
              <a:tblGrid>
                <a:gridCol w="2144160"/>
                <a:gridCol w="216000"/>
                <a:gridCol w="1886400"/>
                <a:gridCol w="1033920"/>
                <a:gridCol w="1034280"/>
                <a:gridCol w="1034280"/>
                <a:gridCol w="1032840"/>
              </a:tblGrid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delays per time un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1C-1133-459A-A35F-17DA5FA35B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up input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e components’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the hierarchy b/w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sequencing of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inte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ep 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duct the costs of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496-5636-49D3-85A8-F33A95C3D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system re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76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960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920" y="3276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0280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FB5-AB4A-4358-BD54-C1FDB17A1C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: Sequence of component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412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9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34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9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944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6E1-E72B-455C-A990-F00EE56344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: Replace Customer Inform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440" y="16002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6400" y="16002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396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15238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14240" y="144792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952880" y="213372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32448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209320" y="2285640"/>
            <a:ext cx="39625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437920" y="2209320"/>
            <a:ext cx="487692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09880" y="2437920"/>
            <a:ext cx="2362320" cy="3505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981080" y="2285640"/>
            <a:ext cx="2286000" cy="25146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504960" y="2209320"/>
            <a:ext cx="990360" cy="2590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48320" y="1752120"/>
            <a:ext cx="213336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8500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1981080"/>
            <a:ext cx="1600200" cy="533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F80-1923-4E86-8732-AA82BC11BB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Life and Health Admi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33360" y="3733920"/>
            <a:ext cx="3352680" cy="2286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8000" y="13716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8280" y="31240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438280" y="16002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8000" y="487692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54080" y="582768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7240" y="487692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525780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48160" y="525780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172200" y="1752480"/>
            <a:ext cx="914400" cy="42674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905120" y="3733560"/>
            <a:ext cx="4876560" cy="1143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648320" y="175212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37640" y="251460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95480"/>
            <a:ext cx="763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41320" y="380988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876560" y="42670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1911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5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2200" y="1752480"/>
            <a:ext cx="380880" cy="2057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71800" y="3505320"/>
            <a:ext cx="26668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F7B-C129-432C-8BDC-BCAEC9E978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Implementation Phase III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remain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36600" y="49528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82680" y="59040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9920" y="38862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36960" y="26668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66240" y="25909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9528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3341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476760" y="53341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05160" y="4343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29718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248160" y="30481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C81-3B1F-4221-A555-96C0A57188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2A5-FC59-40BB-822D-2781380F6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/components dependen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701200">
            <a:off x="1714320" y="2552760"/>
            <a:ext cx="5029200" cy="19047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6800" y="2550960"/>
            <a:ext cx="3598920" cy="2706840"/>
          </a:xfrm>
          <a:prstGeom prst="ellipse">
            <a:avLst/>
          </a:prstGeom>
          <a:solidFill>
            <a:srgbClr val="ffff99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5000" y="3975120"/>
            <a:ext cx="47484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46600" y="226548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22720" y="2693880"/>
            <a:ext cx="955440" cy="99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46600" y="3121200"/>
            <a:ext cx="4413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59440" y="1981080"/>
            <a:ext cx="11318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2120" y="2408400"/>
            <a:ext cx="1414440" cy="3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59440" y="2835360"/>
            <a:ext cx="113184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98800" y="3691080"/>
            <a:ext cx="124488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19680" y="3691080"/>
            <a:ext cx="1301760" cy="3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4545000"/>
            <a:ext cx="113184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13240" y="4014720"/>
            <a:ext cx="73512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464832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4419720"/>
            <a:ext cx="102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endent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12408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17920" y="3440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419720"/>
            <a:ext cx="140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 Polic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4800600"/>
            <a:ext cx="1244520" cy="3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compon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5257800"/>
            <a:ext cx="1219320" cy="4572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3A9-9CF0-4DC7-BD9D-878715EE6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companies were among the first to adopt computer technolog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these companies have monolithic systems.  These systems are designed to address one or more business processes (e.g. Claims handling) and include all necessary fun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have many (often hundreds) of these systems. Function or business rules are hereby repeated many times which makes the extension and maintenance of these system very costly and leng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are looking to replace the older systems with new ones to achieve competitive advantages, reduce cost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FEA-5343-4795-84C4-E2AE581A7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for a simplified system portfolio of an insurance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B94-D157-4E00-93AD-AC8B37D93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ystems have dependencies. The Claim System e.g. accesses the Customer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440" y="2286000"/>
            <a:ext cx="1930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6400" y="2286000"/>
            <a:ext cx="2221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Policy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3960" y="1828800"/>
            <a:ext cx="1589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1680" y="3505320"/>
            <a:ext cx="237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8280" y="3809880"/>
            <a:ext cx="199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 Policy Ad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73356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705720" y="22096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205740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33360" y="1905120"/>
            <a:ext cx="4343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38280" y="2286000"/>
            <a:ext cx="4114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5A-FD29-4816-AFB0-CA87119D65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based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 companies have adopted the idea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based develop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omponent does not implement an entire business process, but only certain related fun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y component e.g. could include all the necessary functions to administrate persons and organizations and the roles they play for the company (e.g. Policy Holder, Insured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unction is only implemented once.  If a component needs to use that function it access the component that implements it, rather than replica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415-D3E5-4E1E-A636-BBE2E3C15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6400" y="4495680"/>
            <a:ext cx="17535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82480" y="5446800"/>
            <a:ext cx="110592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9720" y="3429000"/>
            <a:ext cx="129636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6760" y="2209680"/>
            <a:ext cx="7628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66040" y="2133720"/>
            <a:ext cx="176400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25640" y="4495680"/>
            <a:ext cx="714240" cy="368280"/>
          </a:xfrm>
          <a:prstGeom prst="rect">
            <a:avLst/>
          </a:prstGeom>
          <a:solidFill>
            <a:srgbClr val="0000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876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76560" y="4876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4960" y="38862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3809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51460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4796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nents are organized in a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611-B70E-4D0D-B4BB-BEA71DDD43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lace systems through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 component covers an entire business process. Therefore multiple components are needed to cover the functions of a sing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components and systems have dependencies, determining the sequence in which to replace which system with which component can be tric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systems can be replaced at once, so system interfaces might be required to integrate new components with ol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D86-B1B9-4785-983D-6EFBFA9AFA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atrix shows which components cover which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3D5-B902-4B23-AC82-57E301F8B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and the cost of building interfaces to the existing sys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8880" cy="4525200"/>
        </p:xfrm>
        <a:graphic>
          <a:graphicData uri="http://schemas.openxmlformats.org/drawingml/2006/table">
            <a:tbl>
              <a:tblPr/>
              <a:tblGrid>
                <a:gridCol w="1415160"/>
                <a:gridCol w="1363320"/>
                <a:gridCol w="1362600"/>
                <a:gridCol w="1362240"/>
                <a:gridCol w="1363320"/>
                <a:gridCol w="1362240"/>
              </a:tblGrid>
              <a:tr h="115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Policy Ad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e Policy Admi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uni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re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99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cques Ollivier, Oliver Koernig J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2FD-7E0B-4887-8603-7D80C5318F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2:56:47Z</dcterms:created>
  <dc:creator>IBM_USER</dc:creator>
  <dc:description/>
  <dc:language>en-US</dc:language>
  <cp:lastModifiedBy>IBM_USER</cp:lastModifiedBy>
  <dcterms:modified xsi:type="dcterms:W3CDTF">2004-08-06T13:05:43Z</dcterms:modified>
  <cp:revision>9</cp:revision>
  <dc:subject/>
  <dc:title>System dependency</dc:title>
</cp:coreProperties>
</file>